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13A0F2-0F86-4FDC-A4A2-B15AE6C4AB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BFF71-85FF-4280-94C8-2AD3E0D51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AC4783-EBA7-467E-9B46-B2725627AC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5C59D9-94C6-4DE3-BD8F-71C13B72BC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0AAFB1-AD25-46F1-A17F-8707AE3903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2D9815-1D7C-4013-BEE1-7BC664F80C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00EC83-3DFD-4A51-AA07-3E8C85ABB3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97B8A3-9815-45A3-A099-DB5FF74D37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B2E9E0-D706-4E4F-8A16-16AF8EB9CA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E683D3-2DE7-4ED5-A7C3-CB40384037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E7156A-3B01-4B60-8AF6-8100FFCD12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7A3E9-2D4B-4DA0-92AE-BB4191BBC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A3E51-04B5-48D7-AB29-6BF8C139D3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26EE52-7E9E-4201-BAD7-B4F73C6716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2A93CA-C712-473A-BF7D-BEC308E542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EA0666-5300-484D-9023-887F135AB9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DC1CD3-2A56-4067-9B08-C0A672BE8B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428D0-376B-4BF0-B641-AB10D7B04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ABB9D-EE04-4056-93EB-A14AE21F8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EEC8B-9AAB-4A17-AA73-0CB7F3DCE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7BBCA-A313-4DEB-8C48-7BAD5D61B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53F52-78EA-46E5-940A-D194EDB8F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E74CD-DC0E-45DC-9C22-51B756DB6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396BA-5BF9-4E08-A8DB-B95F8D0599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E6028-153C-40F6-B416-69E7FCA4BE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393D4-CB10-450C-83C9-E28A2837783F}"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3357720"/>
            <a:ext cx="7772400" cy="4114800"/>
          </a:xfrm>
          <a:prstGeom prst="rect">
            <a:avLst/>
          </a:prstGeom>
          <a:noFill/>
          <a:ln w="0">
            <a:noFill/>
          </a:ln>
        </p:spPr>
        <p:txBody>
          <a:bodyPr lIns="92160" rIns="92160" tIns="46080" bIns="460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宋体"/>
              </a:rPr>
              <a:t>第八章</a:t>
            </a:r>
            <a:r>
              <a:rPr b="1" lang="en-US" sz="3600" spc="-1" strike="noStrike">
                <a:solidFill>
                  <a:srgbClr val="ffffcc"/>
                </a:solidFill>
                <a:latin typeface="宋体"/>
              </a:rPr>
              <a:t>   </a:t>
            </a:r>
            <a:r>
              <a:rPr b="1" lang="zh-CN" sz="3600" spc="-1" strike="noStrike">
                <a:solidFill>
                  <a:srgbClr val="ffffcc"/>
                </a:solidFill>
                <a:latin typeface="宋体"/>
              </a:rPr>
              <a:t>保险公司偿付能力的管理</a:t>
            </a:r>
            <a:r>
              <a:rPr b="1" lang="zh-CN" sz="3600" spc="-1" strike="noStrike">
                <a:solidFill>
                  <a:srgbClr val="ffffcc"/>
                </a:solidFill>
                <a:latin typeface="Times New Roman"/>
              </a:rPr>
              <a:t></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 承保能力的控制</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 保险赔偿基金的损失概率计算的准确性和可靠程度</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偿付能力的静态监管</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最低资本金的规定</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注册资本是保险公司开业初期赔付保险金的资金来源，是保险公司日后积累资本的基础，是保险公司投资的资金来源，也是偿付能力的重要组成部分</a:t>
            </a:r>
            <a:r>
              <a:rPr b="0"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财务比率分析法</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财务比率分析法是保险监管机构分析和监管保险公司偿付能力的主要方法，也是保险信用评级机构在评级中分析保险公司财务状况的常用方法。</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风险资本要求法（</a:t>
            </a:r>
            <a:r>
              <a:rPr b="1" lang="en-US" sz="3200" spc="-1" strike="noStrike">
                <a:solidFill>
                  <a:srgbClr val="ffffcc"/>
                </a:solidFill>
                <a:latin typeface="Times New Roman"/>
                <a:ea typeface="楷体_GB2312"/>
              </a:rPr>
              <a:t>RBC</a:t>
            </a:r>
            <a:r>
              <a:rPr b="1" lang="zh-CN" sz="3200" spc="-1" strike="noStrike">
                <a:solidFill>
                  <a:srgbClr val="ffffcc"/>
                </a:solidFill>
                <a:latin typeface="Times New Roman"/>
                <a:ea typeface="楷体_GB2312"/>
              </a:rPr>
              <a:t>法）</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风险资本要求法是一种量化风险的监管方法，根据保险公司的规模和风险状况衡量该公司用于支持业务经营所需要的最低资本，以保证保险公司的偿付能力。</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美国</a:t>
            </a:r>
            <a:r>
              <a:rPr b="1" lang="en-US" sz="3200" spc="-1" strike="noStrike">
                <a:solidFill>
                  <a:srgbClr val="ffffcc"/>
                </a:solidFill>
                <a:latin typeface="楷体_GB2312"/>
                <a:ea typeface="楷体_GB2312"/>
              </a:rPr>
              <a:t>NAIC</a:t>
            </a:r>
            <a:r>
              <a:rPr b="1" lang="zh-CN" sz="3200" spc="-1" strike="noStrike">
                <a:solidFill>
                  <a:srgbClr val="ffffcc"/>
                </a:solidFill>
                <a:latin typeface="楷体_GB2312"/>
                <a:ea typeface="楷体_GB2312"/>
              </a:rPr>
              <a:t>的</a:t>
            </a:r>
            <a:r>
              <a:rPr b="1" lang="en-US" sz="3200" spc="-1" strike="noStrike">
                <a:solidFill>
                  <a:srgbClr val="ffffcc"/>
                </a:solidFill>
                <a:latin typeface="楷体_GB2312"/>
                <a:ea typeface="楷体_GB2312"/>
              </a:rPr>
              <a:t>RBC</a:t>
            </a:r>
            <a:r>
              <a:rPr b="1" lang="zh-CN" sz="3200" spc="-1" strike="noStrike">
                <a:solidFill>
                  <a:srgbClr val="ffffcc"/>
                </a:solidFill>
                <a:latin typeface="楷体_GB2312"/>
                <a:ea typeface="楷体_GB2312"/>
              </a:rPr>
              <a:t>方法</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日本偿付能力风险资本监管法</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3" name=""/>
          <p:cNvSpPr txBox="1"/>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现场法定检查法</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美国现场法定检查</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加拿大的法定现场检查</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五、法定基金双重标准方法</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六、欧盟偿付能力</a:t>
            </a:r>
            <a:r>
              <a:rPr b="1" lang="en-US" sz="3200" spc="-1" strike="noStrike">
                <a:solidFill>
                  <a:srgbClr val="ffffcc"/>
                </a:solidFill>
                <a:latin typeface="Times New Roman"/>
                <a:ea typeface="楷体_GB2312"/>
              </a:rPr>
              <a:t>Ⅱ</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四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偿付能力的动态监管</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7" name=""/>
          <p:cNvSpPr txBox="1"/>
          <p:nvPr/>
        </p:nvSpPr>
        <p:spPr>
          <a:xfrm>
            <a:off x="539640" y="1989000"/>
            <a:ext cx="7989840" cy="41832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美国的现金流量测试（</a:t>
            </a:r>
            <a:r>
              <a:rPr b="1" lang="en-US" sz="3200" spc="-1" strike="noStrike">
                <a:solidFill>
                  <a:srgbClr val="ffffcc"/>
                </a:solidFill>
                <a:latin typeface="Times New Roman"/>
                <a:ea typeface="楷体_GB2312"/>
              </a:rPr>
              <a:t>CFT</a:t>
            </a:r>
            <a:r>
              <a:rPr b="1" lang="zh-CN" sz="3200" spc="-1" strike="noStrike">
                <a:solidFill>
                  <a:srgbClr val="ffffcc"/>
                </a:solidFill>
                <a:latin typeface="Times New Roman"/>
                <a:ea typeface="楷体_GB2312"/>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加拿大的偿付能力动态测试（</a:t>
            </a:r>
            <a:r>
              <a:rPr b="1" lang="en-US" sz="3200" spc="-1" strike="noStrike">
                <a:solidFill>
                  <a:srgbClr val="ffffcc"/>
                </a:solidFill>
                <a:latin typeface="Times New Roman"/>
                <a:ea typeface="楷体_GB2312"/>
              </a:rPr>
              <a:t>DST</a:t>
            </a:r>
            <a:r>
              <a:rPr b="1" lang="zh-CN" sz="3200" spc="-1" strike="noStrike">
                <a:solidFill>
                  <a:srgbClr val="ffffcc"/>
                </a:solidFill>
                <a:latin typeface="Times New Roman"/>
                <a:ea typeface="楷体_GB2312"/>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偿付能力动态监管的优点</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9"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五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我国保险公司偿付能力的监管</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宋体"/>
              </a:rPr>
              <a:t>第一节</a:t>
            </a:r>
            <a:r>
              <a:rPr b="1" lang="en-US" sz="3600" spc="-1" strike="noStrike">
                <a:solidFill>
                  <a:srgbClr val="ffffcc"/>
                </a:solidFill>
                <a:latin typeface="宋体"/>
              </a:rPr>
              <a:t>  </a:t>
            </a:r>
            <a:r>
              <a:rPr b="1" lang="zh-CN" sz="3600" spc="-1" strike="noStrike">
                <a:solidFill>
                  <a:srgbClr val="ffffcc"/>
                </a:solidFill>
                <a:latin typeface="宋体"/>
              </a:rPr>
              <a:t>偿付能力的概念和种类</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我国《保险法》对偿付能力管理的规定</a:t>
            </a:r>
            <a:endParaRPr b="0" lang="en-US" sz="2800" spc="-1" strike="noStrike">
              <a:solidFill>
                <a:srgbClr val="ffffcc"/>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二、我国第二代偿付能力监管制度的整体框架</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制度特征</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统一市场监管</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新兴市场</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风险与价值并重</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二）监管要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第一支柱定量资本要求</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第一支柱定量资本要求主要防范能够量化的风险</a:t>
            </a:r>
            <a:r>
              <a:rPr b="1" lang="zh-CN"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风险、市场风险和信用风险，通过科学地识别和量化各类风险，要求保险公司具备与其风险相适应的资本。</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能够量化的风险具备三个特征：</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这些风险应当是保险公司经营中长期稳定存在的；</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通过现有的技术手段，可以定量识别这些风险的大小；</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这些风险的计量方法和结果是可靠的。</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第二支柱定性监管要求</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第二支柱定性监管要求，是在第一支柱的基础上，进一步防范难以量化的风险，如操作风险、战略风险、声誉风险、流动性风险等。</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第三支柱市场约束机制</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第三支柱市场约束机制是引导、促进和发挥市场相关利益人的力量，通过对外信息披露等手段，借助市场的约束力，加强对保险公司偿付能力的监管，进一步防范风险。</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三）监管基础</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保险公司内部偿付能力管理是企业内部的管理行为，是偿付能力监管的基础。</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三、我国第二代偿付能力监管制度中有关偿付能力充足的指标</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1.</a:t>
            </a:r>
            <a:r>
              <a:rPr b="1" lang="en-US" sz="2800" spc="-1" strike="noStrike">
                <a:solidFill>
                  <a:srgbClr val="ffffcc"/>
                </a:solidFill>
                <a:latin typeface="楷体_GB2312"/>
                <a:ea typeface="楷体_GB2312"/>
              </a:rPr>
              <a:t>核心偿付能力充足率</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2.</a:t>
            </a:r>
            <a:r>
              <a:rPr b="1" lang="en-US" sz="2800" spc="-1" strike="noStrike">
                <a:solidFill>
                  <a:srgbClr val="ffffcc"/>
                </a:solidFill>
                <a:latin typeface="楷体_GB2312"/>
                <a:ea typeface="楷体_GB2312"/>
              </a:rPr>
              <a:t>综合偿付能力充足率</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3.</a:t>
            </a:r>
            <a:r>
              <a:rPr b="1" lang="en-US" sz="2800" spc="-1" strike="noStrike">
                <a:solidFill>
                  <a:srgbClr val="ffffcc"/>
                </a:solidFill>
                <a:latin typeface="楷体_GB2312"/>
                <a:ea typeface="楷体_GB2312"/>
              </a:rPr>
              <a:t>风险综合评级</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611280" y="54936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rPr>
              <a:t>复习思考题</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什么是保险公司的偿付能力？它的经济内涵是什么？</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如何理解最低偿付能力额度、法定偿付能力额度和实际偿付能力额度的关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分析影响保险公司偿付能力的主要因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简述保险偿付能力的静态监管的方法有哪些？这些方法存在哪些缺点？</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6"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保险偿付能力动态监管的方法有哪两种？动态监管有什么优点？</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en-US" sz="2800" spc="-1" strike="noStrike">
                <a:solidFill>
                  <a:srgbClr val="ffffcc"/>
                </a:solidFill>
                <a:latin typeface="楷体_GB2312"/>
                <a:ea typeface="楷体_GB2312"/>
              </a:rPr>
              <a:t>简述我国第二代偿付能力监管制度的制度特征</a:t>
            </a:r>
            <a:r>
              <a:rPr b="1" lang="zh-CN" sz="2800" spc="-1" strike="noStrike">
                <a:solidFill>
                  <a:srgbClr val="ffffcc"/>
                </a:solidFill>
                <a:latin typeface="楷体_GB2312"/>
                <a:ea typeface="楷体_GB2312"/>
              </a:rPr>
              <a:t>。</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分析我国第二代偿付能力监管制度中三支柱监管的含义以及它们之间的相互关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684360" y="2276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偿付能力的概念</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偿付能力是指公司偿还债务的能力，具体表现为公司是否有足够的资产来抵偿其负债。</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 偿付能力的经济内涵</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公司的偿付能力表现了保险公司资产与负债之间的一种关系。</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 偿付能力额度的种类</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偿付能力额度是考察偿付能力强度的指标，用这个指标可以衡量保险公司偿付能力的大小。</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楷体_GB2312"/>
                <a:ea typeface="楷体_GB2312"/>
              </a:rPr>
              <a:t>从偿付能力管理的不同角度出发，对偿付能力额度又引申出另外几个概念：</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最低偿付能力额度（</a:t>
            </a:r>
            <a:r>
              <a:rPr b="1" lang="en-US" sz="3200" spc="-1" strike="noStrike">
                <a:solidFill>
                  <a:srgbClr val="ffffcc"/>
                </a:solidFill>
                <a:latin typeface="楷体_GB2312"/>
                <a:ea typeface="楷体_GB2312"/>
              </a:rPr>
              <a:t>Minimum Solvency Margin</a:t>
            </a:r>
            <a:r>
              <a:rPr b="1" lang="zh-CN" sz="3200" spc="-1" strike="noStrike">
                <a:solidFill>
                  <a:srgbClr val="ffffcc"/>
                </a:solidFill>
                <a:latin typeface="楷体_GB2312"/>
                <a:ea typeface="楷体_GB2312"/>
              </a:rPr>
              <a:t>，</a:t>
            </a:r>
            <a:r>
              <a:rPr b="1" lang="en-US" sz="3200" spc="-1" strike="noStrike">
                <a:solidFill>
                  <a:srgbClr val="ffffcc"/>
                </a:solidFill>
                <a:latin typeface="楷体_GB2312"/>
                <a:ea typeface="楷体_GB2312"/>
              </a:rPr>
              <a:t>MSM</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法定偿付能力额度（</a:t>
            </a:r>
            <a:r>
              <a:rPr b="1" lang="en-US" sz="3200" spc="-1" strike="noStrike">
                <a:solidFill>
                  <a:srgbClr val="ffffcc"/>
                </a:solidFill>
                <a:latin typeface="楷体_GB2312"/>
                <a:ea typeface="楷体_GB2312"/>
              </a:rPr>
              <a:t>Statutory Solvency Margin, SSM</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实际偿付能力额度（</a:t>
            </a:r>
            <a:r>
              <a:rPr b="1" lang="en-US" sz="3200" spc="-1" strike="noStrike">
                <a:solidFill>
                  <a:srgbClr val="ffffcc"/>
                </a:solidFill>
                <a:latin typeface="楷体_GB2312"/>
                <a:ea typeface="楷体_GB2312"/>
              </a:rPr>
              <a:t>Actual Solvency Margin, ASM</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11280" y="249228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  保险公司偿付能力的影响因素分析</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的偿付准备金</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偿付准备金以资本金、总准备金和未分配盈余三者之和为代表，构成了保险公司偿付能力的经济内涵。</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要分析影响保险公司偿付能力的因素，首先要分析影响偿付准备金的因素：</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赔付率的波动</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投资收益</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费用水平</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业务增长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红利分配</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cp:keywords/>
  <dc:language>en-US</dc:language>
  <cp:lastModifiedBy>苏菲的小猫</cp:lastModifiedBy>
  <dcterms:modified xsi:type="dcterms:W3CDTF">2020-05-25T06:01:31Z</dcterms:modified>
  <cp:revision>56</cp:revision>
  <dc:subject/>
  <dc:title>没有幻灯片标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64</vt:lpwstr>
  </property>
</Properties>
</file>